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71C-1D34-45BE-AA01-E230AD80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268-8BF9-4431-B82E-DFA8104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E29-660A-47C4-87A7-034DE58B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C39-CA2E-4A3C-AAD9-01EA2DE5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2E2-886E-4C17-966E-CBFF6DB7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FAB-0BFB-40EC-B45D-324F239F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BE7-CD15-4B8B-9C34-6ADF8EF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09C-E6B1-4E67-A6B6-8B9EBFB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EB6-2E2B-4EDF-8F8F-8A0D043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4C2-2585-44C7-BBC2-C641D54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301-A3C9-4282-983A-C81E52C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8E0-A185-4FA9-9A2B-D62DCCE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8B7-0AAF-494E-8247-ADBA5A3D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016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057400"/>
            <a:ext cx="546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Qu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é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El esterno de el Cascanu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uan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15, de December 12:00 y 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on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los teatros de Broadway, Neuve York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La taquill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$35- Adultos   $25-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693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H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Bienvenidos a los </a:t>
            </a:r>
            <a:r>
              <a:rPr b="1" lang="en-US" sz="1400" spc="-1" strike="noStrike" u="sng">
                <a:solidFill>
                  <a:srgbClr val="ff00ff"/>
                </a:solidFill>
                <a:uFillTx/>
                <a:latin typeface="Arial"/>
              </a:rPr>
              <a:t>teatros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de Broadway, es muy grande y muy elega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par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ver</a:t>
            </a:r>
            <a:r>
              <a:rPr b="0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el Cascanueces, los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boletos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son $35 para adultos y $25 para los ni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El paisaje es muy bonito. Los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butacas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son muy c</a:t>
            </a:r>
            <a:r>
              <a:rPr b="0" lang="el-GR" sz="1400" spc="-1" strike="noStrike">
                <a:solidFill>
                  <a:srgbClr val="ff00ff"/>
                </a:solidFill>
                <a:latin typeface="Arial"/>
                <a:ea typeface="Arial"/>
              </a:rPr>
              <a:t>ό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modos. Meriandas; coca cola, papas fritas, una limonada, una tortilla. Cerca de los teatros un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metro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, y un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taxi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No, hay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gente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en l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fila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delante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de l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taquilla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457200"/>
            <a:ext cx="76485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invenidos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s teatros de Broadway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148200" cy="186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542960" cy="11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6019920"/>
            <a:ext cx="33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!Dos Por Uno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867280" y="5867280"/>
            <a:ext cx="2571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ran Experiencia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209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6:05Z</dcterms:created>
  <dc:creator>hillnic</dc:creator>
  <dc:description/>
  <dc:language>en-US</dc:language>
  <cp:lastModifiedBy>hillnic</cp:lastModifiedBy>
  <dcterms:modified xsi:type="dcterms:W3CDTF">2011-12-22T19:06:57Z</dcterms:modified>
  <cp:revision>6</cp:revision>
  <dc:subject/>
  <dc:title>Los teatros de Broadway</dc:title>
</cp:coreProperties>
</file>